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entau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enta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CAlogo 2x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00200" y="6269040"/>
            <a:ext cx="571680" cy="24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24680" y="76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Centaur"/>
              </a:rPr>
              <a:t>1.9.3.G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6840" rIns="45684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2219760" y="6248160"/>
            <a:ext cx="4953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Centaur"/>
                <a:ea typeface="Times New Roman"/>
              </a:rPr>
              <a:t>© Family Economics &amp; Financial Education – Revised March 2009 – Housing Unit – Renting vs. Owning a Home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Centaur"/>
                <a:ea typeface="Times New Roman"/>
              </a:rPr>
              <a:t>Funded by a grant from Take Charge America, Inc. to the Norton School of Family and Consumer Sciences at the University of Arizona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6705720" y="6292800"/>
            <a:ext cx="495360" cy="20628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7238880" y="6248520"/>
            <a:ext cx="457200" cy="27288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189160" y="6380280"/>
            <a:ext cx="571680" cy="12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aur"/>
              </a:rPr>
              <a:t>Click to edit the outline text format</a:t>
            </a:r>
            <a:endParaRPr b="1" lang="en-US" sz="3600" spc="-1" strike="noStrike">
              <a:solidFill>
                <a:srgbClr val="006666"/>
              </a:solidFill>
              <a:latin typeface="Centaur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Centau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opperplate Gothic Light"/>
              </a:rPr>
              <a:t>Renting vs. Owning</a:t>
            </a:r>
            <a:endParaRPr b="1" lang="en-US" sz="48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4038120"/>
            <a:ext cx="447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entaur"/>
              </a:rPr>
              <a:t>Family Economics and Financial Education </a:t>
            </a:r>
            <a:endParaRPr b="1" lang="en-US" sz="2000" spc="-1" strike="noStrike">
              <a:solidFill>
                <a:srgbClr val="006666"/>
              </a:solidFill>
              <a:latin typeface="Centaur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Centaur"/>
              </a:rPr>
              <a:t>Take Charge of your Finances </a:t>
            </a:r>
            <a:endParaRPr b="1" lang="en-US" sz="2000" spc="-1" strike="noStrike">
              <a:solidFill>
                <a:srgbClr val="0066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Costs of ownership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Monthly mortgage payments 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Down payment (one time cost)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Closing costs (one time cost)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Utilities – electricity, water, garbage, etc.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Homeowner’s insurance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Real estate property taxe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Maintenance 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62920" y="2895480"/>
            <a:ext cx="137304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Home ownership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entaur"/>
              </a:rPr>
              <a:t>Home ownership </a:t>
            </a: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- the buyer has purchased a housing unit as property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Goal of many Americans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A large financial decision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Owning a home is an investment because if a person sells a home for more than what it was bought for, the person makes money.  This is called </a:t>
            </a:r>
            <a:r>
              <a:rPr b="1" lang="en-US" sz="2400" spc="-1" strike="noStrike">
                <a:solidFill>
                  <a:srgbClr val="003366"/>
                </a:solidFill>
                <a:latin typeface="Centaur"/>
              </a:rPr>
              <a:t>equity</a:t>
            </a: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Financial planning and savings can assist a person in planning for the benefits of home ownership later in life.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Purchasing a home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90% of buyers take out a mortgage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A home loan in which the real estate is the collateral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Centaur"/>
              </a:rPr>
              <a:t>Collateral</a:t>
            </a: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 is an item promised to the lender if the borrower does not pay back the loan, usually the home.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Down payment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Amount of money paid on the home at time of purchase 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Typically 10 – 20% of the purchase price of the home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Recommended purchase price amount an individual should pay for a home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entaur"/>
              </a:rPr>
              <a:t>2 ½ times their annual household income</a:t>
            </a:r>
            <a:endParaRPr b="0" lang="en-US" sz="22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Advantages of ownership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3733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Build equity which can be borrowed against if necessary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Pride of ownership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Feel more comfortable and have more privacy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Stable mortgage payments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More room and storage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Improvement of buyer’s credit rating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Income tax deductions for property taxes and mortgage interest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Potential for property to increase in value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Free to make home improvements and have pets (items typically not allowed in rentals)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Disadvantages of ownership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Large down payment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Move-in costs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Insurance costs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Possible for property to decrease in value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Time, money, and energy commitment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Repair and maintenance costs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Property taxes can raise substantially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Money is tied up in the home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May take several months to sell a home if trying to relocate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Keep In mind. . .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entaur"/>
              </a:rPr>
              <a:t>People are always paying </a:t>
            </a:r>
            <a:endParaRPr b="0" lang="en-US" sz="4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entaur"/>
              </a:rPr>
              <a:t>for a home.  It’s just a </a:t>
            </a:r>
            <a:endParaRPr b="0" lang="en-US" sz="4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entaur"/>
              </a:rPr>
              <a:t>matter of whether it is </a:t>
            </a:r>
            <a:endParaRPr b="0" lang="en-US" sz="4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entaur"/>
              </a:rPr>
              <a:t>for themselves or </a:t>
            </a:r>
            <a:endParaRPr b="0" lang="en-US" sz="4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entaur"/>
              </a:rPr>
              <a:t>their landlord.</a:t>
            </a:r>
            <a:endParaRPr b="0" lang="en-US" sz="4000" spc="-1" strike="noStrike">
              <a:solidFill>
                <a:srgbClr val="003366"/>
              </a:solidFill>
              <a:latin typeface="Centaur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Introduction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Housing is the largest personal expenditure.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About 1/3 of a person’s income.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Choosing where to live is based upon a person’s goals, values, needs, and wants.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Places to live include: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House, apartment, condo, mobile home, etc.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Reasons for making a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housing choice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Personal and financial goal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Personal values, needs, and want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Amount of money available for housing cost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Financial resources and readines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Credit history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Real estate prices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Location preference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Expected length of stay in particular place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Costs of renting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Monthly rent 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Security deposit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Utilities – electricity, water, garbage, etc.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Renter’s insurance 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114800"/>
            <a:ext cx="1519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Renting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A </a:t>
            </a:r>
            <a:r>
              <a:rPr b="1" lang="en-US" sz="2000" spc="-1" strike="noStrike">
                <a:solidFill>
                  <a:srgbClr val="003366"/>
                </a:solidFill>
                <a:latin typeface="Centaur"/>
              </a:rPr>
              <a:t>lease</a:t>
            </a: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 is  legal contract between the tenant and the landlord, specifying the responsibilities and rights of both parties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Identifies the rent amount, security deposit amount and specifications, payment for utility bills, late payment penalties, length of lease, eviction terms, etc. 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This is between the landlord and the tenant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aur"/>
              </a:rPr>
              <a:t>Landlord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Owner of the rental property.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May perform management duties or hire a property manager.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entaur"/>
              </a:rPr>
              <a:t>Property manager</a:t>
            </a:r>
            <a:r>
              <a:rPr b="0" lang="en-US" sz="1600" spc="-1" strike="noStrike">
                <a:solidFill>
                  <a:srgbClr val="003366"/>
                </a:solidFill>
                <a:latin typeface="Centaur"/>
              </a:rPr>
              <a:t> - may charge a fee to the landlord to perform the management task</a:t>
            </a:r>
            <a:endParaRPr b="0" lang="en-US" sz="1600" spc="-1" strike="noStrike">
              <a:solidFill>
                <a:srgbClr val="003366"/>
              </a:solidFill>
              <a:latin typeface="Centaur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80000"/>
              <a:buFont typeface="Centa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entaur"/>
              </a:rPr>
              <a:t>Duties may include: </a:t>
            </a:r>
            <a:endParaRPr b="0" lang="en-US" sz="1400" spc="-1" strike="noStrike">
              <a:solidFill>
                <a:srgbClr val="003366"/>
              </a:solidFill>
              <a:latin typeface="Centaur"/>
            </a:endParaRPr>
          </a:p>
          <a:p>
            <a:pPr lvl="3" marL="1472040" indent="-21024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80000"/>
              <a:buFont typeface="Centa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Centaur"/>
              </a:rPr>
              <a:t>May collect rent and deposits, pay utility bills, complete repairs and maintenance, watch over the property, respond to tenant complaints, assign new tenants, etc.</a:t>
            </a:r>
            <a:endParaRPr b="0" lang="en-US" sz="1400" spc="-1" strike="noStrike">
              <a:solidFill>
                <a:srgbClr val="003366"/>
              </a:solidFill>
              <a:latin typeface="Centaur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Renting continued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entaur"/>
              </a:rPr>
              <a:t>Tenant</a:t>
            </a: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 (renter)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The person who rents the property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Renters are generally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People who choose not to own a home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People who cannot afford to own a home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The tenant pays rent to the landlord which allows them to live in the rental property. 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entaur"/>
              </a:rPr>
              <a:t>Rent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entaur"/>
              </a:rPr>
              <a:t>The cost of using someone else’s property.</a:t>
            </a:r>
            <a:endParaRPr b="0" lang="en-US" sz="1800" spc="-1" strike="noStrike">
              <a:solidFill>
                <a:srgbClr val="003366"/>
              </a:solidFill>
              <a:latin typeface="Centaur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14479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Moving into a rental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Upon moving into a new place, people are usually required to pay a security deposit and sign a lease.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aur"/>
              </a:rPr>
              <a:t>Security deposit</a:t>
            </a:r>
            <a:endParaRPr b="0" lang="en-US" sz="2800" spc="-1" strike="noStrike">
              <a:solidFill>
                <a:srgbClr val="003366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entaur"/>
              </a:rPr>
              <a:t>An advance payment to cover anything beyond normal wear and tear on the unit.</a:t>
            </a:r>
            <a:endParaRPr b="0" lang="en-US" sz="24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Advantages of renting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Low move-in costs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Fixed monthly expenses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Easy to move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Location choices (may be close to work or school)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Less maintenance and repair work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Fewer responsibilities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May offer extra amenities such as a tennis court or pool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Less expensive than home ownership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May be able to save for other wants or needs if renting a less expensive apartment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Other expenses may be included in rent payment such as electricity, water, sewer, and/or garbage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pperplate Gothic Light"/>
              </a:rPr>
              <a:t>Disadvantages of renting</a:t>
            </a:r>
            <a:endParaRPr b="1" lang="en-US" sz="4000" spc="-1" strike="noStrike">
              <a:solidFill>
                <a:srgbClr val="0066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Subject to terms of a lease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Rent may change with little notice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Less privacy and transient neighbors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Restrictions on noise level, pets, etc. 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Fewer opportunities to upgrade apartment such as new carpet, paint, or wallpaper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When leaving a property, no equity is returned as it would be if selling a home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No tax deductions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entaur"/>
              </a:rPr>
              <a:t>May lose rental if the property is sold.</a:t>
            </a: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aur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21:00:21Z</dcterms:created>
  <dc:creator>bk</dc:creator>
  <dc:description/>
  <dc:language>en-US</dc:language>
  <cp:lastModifiedBy>itcmaint</cp:lastModifiedBy>
  <dcterms:modified xsi:type="dcterms:W3CDTF">2009-03-11T17:39:29Z</dcterms:modified>
  <cp:revision>60</cp:revision>
  <dc:subject/>
  <dc:title>Renting vs Owning</dc:title>
</cp:coreProperties>
</file>